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8.wmf" ContentType="image/x-wmf"/>
  <Override PartName="/ppt/media/image7.png" ContentType="image/png"/>
  <Override PartName="/ppt/media/image17.wmf" ContentType="image/x-wmf"/>
  <Override PartName="/ppt/media/image14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77F-D65E-431E-A397-246F74F5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7D0A-AE11-4C2E-B0BD-04A099DD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2AF-7578-4C0A-A334-E2B74463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6552-63B2-40F7-9D5A-2B6E6A96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4D8-C133-4FBB-864F-686CA7D8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E1D-3B51-4AE8-B407-FC26F37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E11-BE56-489E-868C-EF0C271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33D-5FDB-4845-A9FF-115A70A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EA4-11E8-4C08-821F-5521F0F3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93E-C1BF-4CA7-9DD8-03C543D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2C5-ACBD-4291-81FF-3BACF7C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4A0-CBBF-406A-856E-27BC17A7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5A8-2F67-4DC7-9BCC-168AB57D7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esund Leb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751040" cy="1494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191120" y="3124080"/>
            <a:ext cx="3241440" cy="2149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2096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piele oft Fussball, weil es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ich ist. Ich mache Gymnastiks, weil es mich fit halte. Ich jogge jeden Tag, weil es gut für meine Gesundheit 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6212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48520" y="2286000"/>
            <a:ext cx="251136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733920" y="3505320"/>
            <a:ext cx="19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s, du rauchst oft, weil es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ich 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32911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 dass, du joggst jeden tag fit zu hal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72200" y="14479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2381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Obst und G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se essen, weil es sehr gesund 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4234" r="46001" b="0"/>
          <a:stretch/>
        </p:blipFill>
        <p:spPr>
          <a:xfrm>
            <a:off x="5867280" y="1295280"/>
            <a:ext cx="2594160" cy="273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2057400"/>
            <a:ext cx="2286000" cy="1670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2786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rauchen, weil es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meine Gesundheit ist. Ich finde rauchen ist schlech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657600" cy="2610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342900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7:14:10Z</dcterms:created>
  <dc:creator>CUSD220</dc:creator>
  <dc:description/>
  <dc:language>en-US</dc:language>
  <cp:lastModifiedBy>CUSD220</cp:lastModifiedBy>
  <dcterms:modified xsi:type="dcterms:W3CDTF">2012-02-24T17:49:04Z</dcterms:modified>
  <cp:revision>3</cp:revision>
  <dc:subject/>
  <dc:title> </dc:title>
</cp:coreProperties>
</file>